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4C4-96F3-446E-8DE3-69162267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571-0838-4479-8792-850D08DF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DBF-9513-402D-BF34-EBAD28D8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FAB-8D85-4060-AD66-A5891E7E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745-C98F-4F63-B482-0C2D5ED8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595-87FB-4D90-A79C-CC4B9462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9E9-9395-4E4B-9ED1-0075E8F2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353-6867-4426-B8FD-99748E2E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B3B-235A-44AA-910B-013A4977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77D-EC55-4236-909B-D67F298A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22C-F0BE-4C0B-AA3B-BC368095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674-1B7F-46F9-AE3C-90D8BC55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1EE8-72AD-43C1-93D4-8826BDE14B5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260280"/>
            <a:ext cx="6192720" cy="31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624120"/>
                </a:solidFill>
                <a:latin typeface="Cambria"/>
              </a:rPr>
              <a:t>ЕВРОПСКЕ МОНАРХИЈЕ ПОЗНОГ СРЕДЊЕГ 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Ð ÐµÐ·ÑÐ»ÑÐ°Ñ ÑÐ»Ð¸ÐºÐ° Ð·Ð° kruna svetog rimskog carstva"/>
          <p:cNvPicPr/>
          <p:nvPr/>
        </p:nvPicPr>
        <p:blipFill>
          <a:blip r:embed="rId1"/>
          <a:stretch/>
        </p:blipFill>
        <p:spPr>
          <a:xfrm>
            <a:off x="539640" y="1668600"/>
            <a:ext cx="39988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rcRect l="0" t="1680" r="0" b="0"/>
          <a:stretch/>
        </p:blipFill>
        <p:spPr>
          <a:xfrm>
            <a:off x="539640" y="2492280"/>
            <a:ext cx="8151840" cy="4210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ХРОНОЛОГИЈА РА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82440" y="1096920"/>
            <a:ext cx="885672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1095. ГОДИНЕ ПАПА УРБАН ЈЕ ОДРЖАО ЦРКВЕНИ САБОР У КЛЕРМОНУ НА КОЈЕМ ЈЕ ПОЗВАО ХРИШЋАНЕ ДА ПОЂУ У РАТ ЗА ОСЛОБОЂЕЊЕ ХРИСТОВОГ ГРОБ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2480" y="215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ТРЕЋИ КРСТАШКИ 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987640" y="4581360"/>
            <a:ext cx="5905440" cy="2165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58920" y="981000"/>
            <a:ext cx="8677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1099. ГОДИНЕ КРСТАШИ СУ ОСВОЈИЛИ ЈЕРУСАЛИМ.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СУЛТАН САЛАДИН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ГА ЈЕ 1187. ГОДИНЕ ПОНОВО ДОВЕО ПОД МУСЛИМАНСКУ ВЛАСТ.  ТО ЈЕ БИО ПОВОД ЗА ТРЕЋИ КРСТАШКИ РАТ (1189-1192). КРСТАШКУ ВОЈСКУ ПРЕДВОДЕ ЦАР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 ФРИДРИХ </a:t>
            </a:r>
            <a:r>
              <a:rPr b="1" lang="sr-Latn-RS" sz="2600" spc="-1" strike="noStrike">
                <a:solidFill>
                  <a:srgbClr val="624120"/>
                </a:solidFill>
                <a:latin typeface="Cambria"/>
              </a:rPr>
              <a:t>I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БАРБАРОСА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, ФРАНЦУСКИ КРАЉ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ФИЛИП </a:t>
            </a:r>
            <a:r>
              <a:rPr b="1" lang="sr-Latn-RS" sz="2600" spc="-1" strike="noStrike">
                <a:solidFill>
                  <a:srgbClr val="624120"/>
                </a:solidFill>
                <a:latin typeface="Cambria"/>
              </a:rPr>
              <a:t>II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И ЕНГЛЕСКИ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КРАЉ РИЧАРД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 ЦАР ФРИДРИХ СЕ УДАВИО НА ПУТУ ДО ЈЕРУСАЛИМА, ФИЛИП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ОДУСТАО ОД ПОХОДА А ЈЕДИНО ЈЕ КРАЉ РИЧАРД ПОКАЗАО ХРАБРОСТ ЗБОГ ЧЕГА ЈЕ И ДОБИО НАДИМАК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ЛАВЉЕ СРЦЕ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79280" y="537228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ДВОБОЈ РИЧАРДА И САЛА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2120" y="215640"/>
            <a:ext cx="8021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СТОГОДИШЊИ 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211640" y="981000"/>
            <a:ext cx="4824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СТОГОДИШЊИ РАТ ЈЕ НАЗИВ ЗА СЕРИЈУ РАТОВА КОЈИ СУ СА ПРЕКИДИМА ВОЂЕНИ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ОД 1337. ДО 1453. ГОДИНЕ.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УЗРОК ЈЕ БИЛА НАМЕРА ЕНГЛЕСКИХ КРАЉЕВА ДА ОСВОЈЕ ФРАНЦУС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ФРАНЦУСКА ЈЕ ИЗ ОВОГ РАТА ИЗАШЛА КАО ПОБЕДНИ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НАЈЗНАЧАЈНИЈ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A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ЛИЧНОСТ ОВОГ РАТА И ФРАНЦУСКА НАЦИОНАЛНА ЈУНАКИЊА БИЛА ЈЕ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ЈОВАНКА ОРЛЕАНКА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s://upload.wikimedia.org/wikipedia/commons/thumb/c/c3/Joan_of_Arc_miniature_graded.jpg/200px-Joan_of_Arc_miniature_graded.jpg"/>
          <p:cNvPicPr/>
          <p:nvPr/>
        </p:nvPicPr>
        <p:blipFill>
          <a:blip r:embed="rId1"/>
          <a:stretch/>
        </p:blipFill>
        <p:spPr>
          <a:xfrm>
            <a:off x="582480" y="1003320"/>
            <a:ext cx="3467160" cy="5234040"/>
          </a:xfrm>
          <a:prstGeom prst="rect">
            <a:avLst/>
          </a:prstGeom>
          <a:ln w="0">
            <a:noFill/>
          </a:ln>
        </p:spPr>
      </p:pic>
      <p:sp>
        <p:nvSpPr>
          <p:cNvPr id="82" name="TextBox 7"/>
          <p:cNvSpPr/>
          <p:nvPr/>
        </p:nvSpPr>
        <p:spPr>
          <a:xfrm>
            <a:off x="582480" y="6289560"/>
            <a:ext cx="346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ЈОВАНКА ОРЛЕ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2120" y="215640"/>
            <a:ext cx="8021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КИЈЕВСКА РУС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58920" y="981000"/>
            <a:ext cx="867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ИСТОЧНОСЛОВЕНСКА ПЛЕМЕНА НАСЕЛИЛА СУ ТОКОМ РАНОГ СРЕДЊЕГ ВЕКА ПРОСТОР ИЗМЕЂУ БАЛТИЧКОГ И ЦРНОГ МОРА. ВЕЛИКИ УТИЦАЈ НА СЛОВЕНЕ ИМАЛИ СУ НОРМАНИ. НОРМАНСКИ КНЕЗ РЈУРИК СРЕДИНО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IX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УСТОЛИЧИО СЕ У НОВГОРОДУ КАО ВЛАДАР СЛОВЕНА. РЈУРИКОВИ ПОТОМЦИ ЗАВЛАДАЛИ СУ КРАЈЕ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IX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ВЕКА КИЈЕВОМ И УЧИНИЛИ ГА ПРЕСТОНИЦОМ СВОЈЕ ДРЖАВЕ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 -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КИЈЕВСКЕ РУСИЈ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НЕЗ ВЛАДИМИР ЈЕ КРАЈЕ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ПРИМИО ХРИШЋАН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СРЕДИНО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ОСЛАБЉЕНУ И ПОДЕЉЕНУ КИЈЕВСКУ РУСИЈУ ОСВОЈИЛИ СУ МОНГО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2188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УГАР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505320" y="1170000"/>
            <a:ext cx="56386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ШИРЕЊЕ МАЂАРА У ЕВРОПИ ЗАУСТАВИО ЈЕ НЕМАЧКИ ЦАР ОТОН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I,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ПРИМОРАО ИХ ДА СЕ НАСЕЛЕ У ПАНОНСКОЈ НИЗИЈИ И ТУ ФОРМИРАЈУ ДРЖАВУ КОЈУ НАЗИВАМО УГАРС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УГАРСКИ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КРАЉ СТЕФАН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1000. ГОДИНЕ ПРИМИО ЈЕ ХРИШЋАН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РАЈЕ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УГАРСКУ СУ ОПУСТОШИЛИ МОНГОЛИ А У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V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У СУСРЕЛА СЕ СА НАЈЕЗДОМ ТУРАКА ОСМАНЛИЈ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179280" y="1341360"/>
            <a:ext cx="3197160" cy="4535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160200" y="6048360"/>
            <a:ext cx="34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УГАРСКИ КРАЉ СТЕФАН (ИШТВ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МОНАРХИЈЕ И РЕПУБЛ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У ПОЗНОМ СРЕДЊЕМ ВЕКУ ПОСТОЈАЛА СУ ДВА ОСНОВНА ТИПА ДРЖАВНОГ УРЕЂЕЊ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1. </a:t>
            </a:r>
            <a:r>
              <a:rPr b="1" lang="sr-RS" sz="2800" spc="-1" strike="noStrike">
                <a:solidFill>
                  <a:srgbClr val="c00000"/>
                </a:solidFill>
                <a:latin typeface="Cambria"/>
              </a:rPr>
              <a:t>РЕПУБЛИКЕ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 – ДРЖАВЕ У КОЈИМА СЕ ОРГАНИ ВЛАСТИ БИРАЈУ НА ОДРЕЂЕНО ВР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624120"/>
                </a:solidFill>
                <a:uFillTx/>
                <a:latin typeface="Cambria"/>
              </a:rPr>
              <a:t>У СРЕДЊЕМ ВЕКУ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: ВЕНЕЦИЈА, ФИРЕНЦА, ЂЕНОВА, ДУБРО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624120"/>
                </a:solidFill>
                <a:uFillTx/>
                <a:latin typeface="Cambria"/>
              </a:rPr>
              <a:t>ДАНАС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: ФРАНЦУСКА, НЕМАЧКА, САД, СРБИЈ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2. </a:t>
            </a:r>
            <a:r>
              <a:rPr b="1" lang="sr-RS" sz="2800" spc="-1" strike="noStrike">
                <a:solidFill>
                  <a:srgbClr val="c00000"/>
                </a:solidFill>
                <a:latin typeface="Cambria"/>
              </a:rPr>
              <a:t>МОНАРХИЈЕ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 – ДРЖАВЕ У КОЈИМА ВЛАСТ ИМА ЈЕДНА ЛИЧНОСТ (ЦАР, КРАЉ ИЛИ КНЕЗ) А НА ПРЕСТО ДОЛАЗИ НАСЛЕДНИМ ПУ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57200" y="404640"/>
            <a:ext cx="82296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СВЕТО РИМСКО ЦА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572000" y="1170000"/>
            <a:ext cx="4572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ПОСЛЕ РАСПАДА ФРАНАЧКОГ ЦАРСТВА ОД ЊЕНОГ ИСТОЧНОГ ДЕЛА ФОРМИРАЛА СЕ У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У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НЕМАЧКА ДРЖАВА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РАЉ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ОТОН </a:t>
            </a:r>
            <a:r>
              <a:rPr b="1" lang="sr-Latn-RS" sz="2600" spc="-1" strike="noStrike">
                <a:solidFill>
                  <a:srgbClr val="624120"/>
                </a:solidFill>
                <a:latin typeface="Cambria"/>
              </a:rPr>
              <a:t>I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962. ГОДИНЕ ОД ПАПЕ ДОБИЈА ЦАРСКУ КРУНУ А ДРЖАВА ЈЕ ВРЕМЕНОМ НАЗВАНА СВЕТО РИМСКО ЦАР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174600" y="1328760"/>
            <a:ext cx="4253040" cy="318276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250920" y="467028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ОТОН</a:t>
            </a:r>
            <a:r>
              <a:rPr b="1" lang="sr-Latn-RS" sz="1600" spc="-1" strike="noStrike">
                <a:solidFill>
                  <a:srgbClr val="000000"/>
                </a:solidFill>
                <a:latin typeface="Cambria"/>
              </a:rPr>
              <a:t> I</a:t>
            </a: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 , ЦАР СВЕТОГ РИМСКОГ ЦА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74600" y="547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ДРЖАВА НИЈЕ БИЛА ЈЕДИНСТВЕНА. ЦАР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ФРИДРИХ</a:t>
            </a:r>
            <a:r>
              <a:rPr b="1" lang="sr-Latn-RS" sz="2800" spc="-1" strike="noStrike">
                <a:solidFill>
                  <a:srgbClr val="624120"/>
                </a:solidFill>
                <a:latin typeface="Cambria"/>
              </a:rPr>
              <a:t> I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 БАРБАРОСА </a:t>
            </a:r>
            <a:r>
              <a:rPr b="1" lang="sr-Latn-RS" sz="2800" spc="-1" strike="noStrike">
                <a:solidFill>
                  <a:srgbClr val="624120"/>
                </a:solidFill>
                <a:latin typeface="Cambria"/>
              </a:rPr>
              <a:t>(1152-1190) 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УСПЕО ЈЕ НА КРАТКО ДА ЈЕ ПОНОВО УЈЕДИНИ</a:t>
            </a:r>
            <a:r>
              <a:rPr b="0" lang="sr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БОРБА ЗА ИНВЕСТИТУ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s://upload.wikimedia.org/wikipedia/commons/thumb/1/11/Investiturewoodcut.jpg/800px-Investiturewoodcut.jpg"/>
          <p:cNvPicPr/>
          <p:nvPr/>
        </p:nvPicPr>
        <p:blipFill>
          <a:blip r:embed="rId1"/>
          <a:srcRect l="7265" t="0" r="7620" b="0"/>
          <a:stretch/>
        </p:blipFill>
        <p:spPr>
          <a:xfrm>
            <a:off x="395280" y="1484280"/>
            <a:ext cx="3384720" cy="4551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4140360" y="1484280"/>
            <a:ext cx="4773600" cy="45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ТОКОМ СРЕДЊЕГ ВЕКА ПАПЕ И ЦАРЕВИ СУ ЧЕСТО БИЛИ У СУКОБУ. НАЈВАЖНИЈИ СПОР ЈЕ БИО ОКО ТОГА КОМЕ ПРИПАДА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ПРАВО ПОСТАВЉАЊА БИСКУПА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СУКОБ ОКО ОВОГ ПИТАЊА НАЗИВА СЕ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БОРБА ЗА ИНВЕСТИ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395280" y="6107040"/>
            <a:ext cx="33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СРЕДЊОВЕКОВНИ КРАЉ ПРЕДАЈЕ ВЛАСТ БИСКУП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ЦАР НА КОЛЕН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62080" y="5373720"/>
            <a:ext cx="849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ТРИ ДАНА ЈЕ ОДЕВЕН У МОНАШКУ ХАЉИНУ И БОСИХ НОГУ ЧЕКАО ИСПРЕД ЗАМКА ДА ГА ПАПА ПРИМИ И ПОВУЧЕ ИЗОПШТЕ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s://upload.wikimedia.org/wikipedia/commons/thumb/1/1b/Canossa-three.jpg/350px-Canossa-three.jpg"/>
          <p:cNvPicPr/>
          <p:nvPr/>
        </p:nvPicPr>
        <p:blipFill>
          <a:blip r:embed="rId1"/>
          <a:stretch/>
        </p:blipFill>
        <p:spPr>
          <a:xfrm>
            <a:off x="262080" y="1716120"/>
            <a:ext cx="4248000" cy="3046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4643280" y="1623960"/>
            <a:ext cx="43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БОРБА ЗА ИНВЕСТИТУРУ ДОСТИГЛА ЈЕ ВРХУНАЦ КАДА ЈЕ ПАПА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ГРГУР </a:t>
            </a:r>
            <a:r>
              <a:rPr b="1" lang="sr-Latn-RS" sz="2800" spc="-1" strike="noStrike">
                <a:solidFill>
                  <a:srgbClr val="624120"/>
                </a:solidFill>
                <a:latin typeface="Cambria"/>
              </a:rPr>
              <a:t>VII 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ИЗОПШТИО ИЗ ЦРКВЕ ЦАРА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ХЕНРИХА</a:t>
            </a:r>
            <a:r>
              <a:rPr b="1" lang="sr-Latn-RS" sz="2800" spc="-1" strike="noStrike">
                <a:solidFill>
                  <a:srgbClr val="624120"/>
                </a:solidFill>
                <a:latin typeface="Cambria"/>
              </a:rPr>
              <a:t> IV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. ЦАР ЈЕ МОРАО 1077. ГОДИНЕ ДА ОДЕ НА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ПОКАЈАЊЕ У КАНОСУ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228600" y="4789440"/>
            <a:ext cx="42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ХЕНРИК IV И ГРГУР VII У КАНОСИ, СЛИКА КАРЛА ЕМАНУ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8480" y="28728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ФРАНЦУСКА И ЕНГЛЕ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95280" y="1189080"/>
            <a:ext cx="84978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ФРАНЦУСКА ЈЕ НАСТАЛА ОД ЗАПАДНИХ ДЕЛОВА ФРАНАЧКОГ ЦАРСТВА. КРАЈЕ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ЊОМ ЈЕ ЗАВАЛАДАЛА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ДИНАСТИЈА КАПЕТА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 ПОЛОЖАЈ КРАЉА БИО ЈЕ ТЕЖАК. ВЛАСТ У ЗЕМЉИ ИМАЛИ СУ КРУПНИ ФЕУДАЛЦИ. ВОЈВОДА НОРМАНДИЈЕ ВИЉЕМ ОСВАЈАЧ ПОБЕДИО ЈЕ ЕНГЛЕСКОГ КРАЉА У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БИЦИ КОД ХЕЈСТИНГСА 1066. ГОДИНЕ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И ЗАВЛАДАО ЕНГЛЕСК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ÐÐ¸ÑÐºÐ° ÐºÐ¾Ð´ Ð¥ÐµÑÑÑÐ¸Ð½Ð³ÑÐ° 1066. Ð³Ð¾Ð´Ð¸Ð½Ð°, Ð´ÐµÑÐ°Ñ ÑÐ° Ð¢Ð°Ð¿Ð¸ÑÐµÑÐ¸ÑÐµ Ð¸Ð· ÐÐ°ÑÐµÐ° "/>
          <p:cNvPicPr/>
          <p:nvPr/>
        </p:nvPicPr>
        <p:blipFill>
          <a:blip r:embed="rId1"/>
          <a:stretch/>
        </p:blipFill>
        <p:spPr>
          <a:xfrm>
            <a:off x="395280" y="4149720"/>
            <a:ext cx="5038560" cy="255276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5433840" y="5870520"/>
            <a:ext cx="345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БИТКА КОД ХЕЈСТИНГСА 1066. ГОДИНА, ДЕТАЉ СА ТАПИСЕРИЈЕ ИЗ БАЈ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179280" y="366840"/>
            <a:ext cx="3762360" cy="5591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64" name="Rectangle 3"/>
          <p:cNvSpPr/>
          <p:nvPr/>
        </p:nvSpPr>
        <p:spPr>
          <a:xfrm>
            <a:off x="2987640" y="260280"/>
            <a:ext cx="61707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АДА ЈЕ ВИЉЕМ ОСВАЈАЧ 1066. ГОДИНЕ ПОСТАО КРАЉ ЕНГЛЕСКЕ, ЕНГЛЕСКА ЈЕ ЗВАНИЧНО ПОСТАЛА ВАЗАЛ ФРАНЦУСКОГ КРАЉА. АЛИ У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У ВЕЛИКИ ДЕО ЗАПАДНЕ И ЈУЖНЕ ФРАНЦУСКЕ ПРЕЛАЗИ ПОД ВЛАСТ ЕНГЛЕСК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ФИЛИП </a:t>
            </a:r>
            <a:r>
              <a:rPr b="1" lang="sr-Latn-RS" sz="2600" spc="-1" strike="noStrike">
                <a:solidFill>
                  <a:srgbClr val="624120"/>
                </a:solidFill>
                <a:latin typeface="Cambria"/>
              </a:rPr>
              <a:t>II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АВГУСТ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, ФРАНЦУСКИ КРАЉ ПОВРАТИО ЈЕ ВЕЛИКИ ДЕО ПОСЕДА.  ОВО ЈЕ КОД ЕНГЛЕСКИХ ПЛЕМИЋА ИЗАЗВАЛО ПОБУНУ ПА СУ ПРИМОРАЛИ ЕНГЛЕСКОГ КРАЉА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ЈОВАНА БЕЗ ЗЕМЉЕ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ДА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1215. ГОДИНЕ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ИЗДА </a:t>
            </a:r>
            <a:r>
              <a:rPr b="1" lang="sr-RS" sz="2600" spc="-1" strike="noStrike" u="sng">
                <a:solidFill>
                  <a:srgbClr val="c00000"/>
                </a:solidFill>
                <a:uFillTx/>
                <a:latin typeface="Cambria"/>
              </a:rPr>
              <a:t>ВЕЛИКУ ПОВЕЉУ СЛОБОДА</a:t>
            </a:r>
            <a:r>
              <a:rPr b="0" lang="sr-RS" sz="26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ОЈОМ ЈЕ ОГРАНИЧЕНА КРАЉЕВА ВЛАСТ И УВЕДЕН ПАРЛАМЕНТАРИЗ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1268280" y="5958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Cambria"/>
              </a:rPr>
              <a:t>MAGNA CARTA LIBERAT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2" descr="Ð ÐµÐ·ÑÐ»ÑÐ°Ñ ÑÐ»Ð¸ÐºÐ° Ð·Ð° Ð¢ÐÐÐÐÐÐ Ð"/>
          <p:cNvPicPr/>
          <p:nvPr/>
        </p:nvPicPr>
        <p:blipFill>
          <a:blip r:embed="rId2"/>
          <a:stretch/>
        </p:blipFill>
        <p:spPr>
          <a:xfrm>
            <a:off x="684360" y="115920"/>
            <a:ext cx="7632720" cy="6870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7640" y="83628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5400" spc="-1" strike="noStrike">
                <a:solidFill>
                  <a:srgbClr val="624120"/>
                </a:solidFill>
                <a:latin typeface="Cambria"/>
              </a:rPr>
              <a:t>КРСТАШКИ </a:t>
            </a:r>
            <a:br>
              <a:rPr sz="5400"/>
            </a:br>
            <a:r>
              <a:rPr b="1" lang="sr-RS" sz="5400" spc="-1" strike="noStrike">
                <a:solidFill>
                  <a:srgbClr val="624120"/>
                </a:solidFill>
                <a:latin typeface="Cambria"/>
              </a:rPr>
              <a:t>РАТОВ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24000" y="316080"/>
            <a:ext cx="7389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КРСТАШКИМ РАТОВИМА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НАЗИВАМО НИЗ ВОЈНИХ ПОХОДА КОЈЕ СУ ОРГАНИЗОВАЛИ ХРИШЋАНИ НА ПОДСТИЦАЈ ПАПЕ ПРОТИВ МУСЛИМАНА (ТУРАКА СЕЛЏУКА) РАДИ ОСЛОБОЂЕЊА СВЕТИХ МЕСТА У ПАЛЕСТИНИ ПОСЕБНО ХРИСТОВОГ ГРОБА У ЈЕРУСАЛИМУ. ТРАЈУ ОД КРАЈА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ДО ПОЛОВИНЕ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324000" y="4662360"/>
            <a:ext cx="6949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НАЗИВ ПОТИЧЕ ОД ЗНАКА КРСТА КОЈИ СУ ВОЈНИЦИ НОСИЛИ НА СВОЈИМ ОДОРАМА, ОБИЧНО ДЕСНОМ РАМЕНУ, ЛЕЂИМА ИЛИ НА ШТИ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Ð ÐµÐ·ÑÐ»ÑÐ°Ñ ÑÐ»Ð¸ÐºÐ° Ð·Ð° ÐÐ Ð¡Ð¢ÐÐ¨ÐÐ Ð¨Ð¢ÐÐ¢"/>
          <p:cNvPicPr/>
          <p:nvPr/>
        </p:nvPicPr>
        <p:blipFill>
          <a:blip r:embed="rId1"/>
          <a:srcRect l="27491" t="0" r="29902" b="0"/>
          <a:stretch/>
        </p:blipFill>
        <p:spPr>
          <a:xfrm>
            <a:off x="6912000" y="1617840"/>
            <a:ext cx="2232000" cy="5238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324000" y="3625920"/>
            <a:ext cx="6949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У ОВОМ ПЕРИОДУ ОРГАНИЗОВАНО ЈЕ ДЕВЕТ (ОСАМ ЗН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A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ЧАЈНИЈИХ) КРСТАШКИХ ПОХ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Windows User</cp:lastModifiedBy>
  <dcterms:modified xsi:type="dcterms:W3CDTF">2019-07-27T11:11:04Z</dcterms:modified>
  <cp:revision>704</cp:revision>
  <dc:subject/>
  <dc:title>Diapositiva 1</dc:title>
</cp:coreProperties>
</file>